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92BE-BC55-4110-AD00-2097A3C55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C2CA-0F69-452C-BD39-93E045E53C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0134-5EAA-4D23-8397-11576F1A9C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961-98D7-4AB1-962D-61ADB53B80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5966-945A-46E9-964A-35E101C64B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53FF-04AE-4EB9-B4D6-3A9D547505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0C3-C1DB-4DBC-A339-34D402AF2E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DE91-7BB1-4C19-BC87-DD313F7D11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8F17-A18A-4174-B124-B09806ADBB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5B4D-7AB6-4BD6-81C0-BB519FED98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B08B-6CBB-49B5-B4FD-0688C9DEC4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CA04-E621-4109-B603-EE02899DE3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FA08-7B3B-477A-AF7F-BC7AB60BE2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9F3-EFB3-4862-8C1F-2DEBA677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C6A-92E6-4D15-81E6-DD802644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252-5A91-4A6D-917D-AE4F6E49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E8F-4837-464A-8DA7-D6AF1AAF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6904-836B-4665-98E7-01F6493A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3BC5-85AC-4039-A93A-5425CE73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FEF9-643A-4F44-AF73-72872291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E024-4840-4DD2-9F6F-BAB7F3A6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C582-70D3-476B-B83A-710FDBC1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1BDC-58DB-4D32-A929-C89261F6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E868-2D8A-4544-B8E8-5950B46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CB7-DA0E-4F43-8DDB-F6D28F45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913B-7C13-4A96-A99D-CABD50C4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8EA5-D6D6-45E3-8305-275944AC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11B2-067F-4B12-9562-36842452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A18D-3FA6-492B-A4F6-4EA44A9E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E7C1-33F8-4332-A161-A42B8F19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4DD-EB74-42A3-BAA6-108D4CFE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FB6-0062-465F-BE48-14D033F7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28F-D871-4366-87EB-DA2DA59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28A-7AD4-4629-8ACE-CF495774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645-54B0-4D32-A8E8-D14A6D13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4DA-5E6E-42CA-B882-5A984AE5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63C-F42F-4CA8-97AC-CE62B77D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B758-3047-472A-B17A-6254BE33F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2D1B-7688-4439-83DC-7B402B2B99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4-25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2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0 году (часть 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79280" y="712800"/>
          <a:ext cx="8785440" cy="603252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6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524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61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1 941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ИГЭ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3 1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Лаборатория спутниковой океанограф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5 0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 13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ранты (конкурсы)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игранные студентами, аспирантами, молодыми учеными и молодыми кандидатами наук РГГМУ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Object 7"/>
          <p:cNvGraphicFramePr/>
          <p:nvPr/>
        </p:nvGraphicFramePr>
        <p:xfrm>
          <a:off x="181080" y="1486080"/>
          <a:ext cx="8543880" cy="53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486080"/>
                    <a:ext cx="85438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ичество студентов и аспирантов, участвовавши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 выполнении НИР темплана РГГМУ в 2011 году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Object 8"/>
          <p:cNvGraphicFramePr/>
          <p:nvPr/>
        </p:nvGraphicFramePr>
        <p:xfrm>
          <a:off x="828720" y="1992240"/>
          <a:ext cx="7277040" cy="332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992240"/>
                    <a:ext cx="7277040" cy="33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Участие в выставках и конференциях в 201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688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, всего –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в том числе   международные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-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3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онференции –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167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в том числе  на базе вуза - 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Количество сотрудник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упивших на конференциях с докладами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1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здательская деятельность в 201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год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4360" y="836640"/>
          <a:ext cx="7991280" cy="4976640"/>
        </p:xfrm>
        <a:graphic>
          <a:graphicData uri="http://schemas.openxmlformats.org/drawingml/2006/table">
            <a:tbl>
              <a:tblPr/>
              <a:tblGrid>
                <a:gridCol w="5937120"/>
                <a:gridCol w="20541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из них изданные вуз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ичество публикаций в сборниках трудов конферен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международных научных конференций, симпозиу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ленарное заседание</a:t>
            </a:r>
            <a:br>
              <a:rPr sz="1800"/>
            </a:b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2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ступительное сло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ектор, д.ф-м.н., проф. Л.Н. Карл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учная деятельность университета в 2011 год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оректор по НР, к.г.н., проф. В.Н. Воробье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временное состояние морской природной среды в районах подводных отвалов грунта  в восточной части Финского зали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Шилин М.Б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д.г.н., проф. (каф. ПО и ОПВ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лияние климатической нормы приземной температуры воздуха на фрактальную размерность рядов многолетнего речного сто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айдукова Е.В.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к.т.н., доцент (каф. Гидрофизики и гидропрогнозов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ормационные технологии в учебном процесс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стомин Е.П. д.э.н., проф., декан факультета Информационных систем и геотехнолог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нешние технологии в исследовании состояния качества сложных природно-технических сист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узалевский А.А. д.т.н., проф. (каф. Экологи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колого-экономические характеристики инвестиционных проек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етрова Е.Е. к.э.н., зав. каф. Экономики предприятия и учетных сист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оль воды в механизме солнечно-земных связ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Чукин В. В. к.ф-м.н., доц.  (каф. ЭФ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рмирование научно-методического обеспечения использования веб-технологий при подготовке профессиональных кадр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Трубина М.А. к.г.н., нач. ИВЦ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11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сновные научные направления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71640" y="765000"/>
          <a:ext cx="6983280" cy="5775480"/>
        </p:xfrm>
        <a:graphic>
          <a:graphicData uri="http://schemas.openxmlformats.org/drawingml/2006/table">
            <a:tbl>
              <a:tblPr/>
              <a:tblGrid>
                <a:gridCol w="441360"/>
                <a:gridCol w="65419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6520" y="291960"/>
            <a:ext cx="813888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в 201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8000" y="1341360"/>
          <a:ext cx="8785080" cy="460872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1611360"/>
                <a:gridCol w="244944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 97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6 88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 79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 3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 248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 8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 10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 137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AutoShape 674"/>
          <p:cNvSpPr/>
          <p:nvPr/>
        </p:nvSpPr>
        <p:spPr>
          <a:xfrm flipH="1">
            <a:off x="8674920" y="292428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678"/>
          <p:cNvSpPr/>
          <p:nvPr/>
        </p:nvSpPr>
        <p:spPr>
          <a:xfrm>
            <a:off x="8675640" y="386064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687"/>
          <p:cNvSpPr/>
          <p:nvPr/>
        </p:nvSpPr>
        <p:spPr>
          <a:xfrm flipH="1">
            <a:off x="8674920" y="5516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06"/>
          <p:cNvSpPr/>
          <p:nvPr/>
        </p:nvSpPr>
        <p:spPr>
          <a:xfrm flipH="1">
            <a:off x="8674920" y="3429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807"/>
          <p:cNvSpPr/>
          <p:nvPr/>
        </p:nvSpPr>
        <p:spPr>
          <a:xfrm flipH="1">
            <a:off x="8674920" y="4653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809"/>
          <p:cNvSpPr/>
          <p:nvPr/>
        </p:nvSpPr>
        <p:spPr>
          <a:xfrm flipH="1">
            <a:off x="8674920" y="508464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810"/>
          <p:cNvSpPr/>
          <p:nvPr/>
        </p:nvSpPr>
        <p:spPr>
          <a:xfrm>
            <a:off x="6227640" y="429264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11"/>
          <p:cNvSpPr/>
          <p:nvPr/>
        </p:nvSpPr>
        <p:spPr>
          <a:xfrm flipH="1">
            <a:off x="6227640" y="508464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14"/>
          <p:cNvSpPr/>
          <p:nvPr/>
        </p:nvSpPr>
        <p:spPr>
          <a:xfrm>
            <a:off x="8675640" y="429264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15"/>
          <p:cNvSpPr/>
          <p:nvPr/>
        </p:nvSpPr>
        <p:spPr>
          <a:xfrm>
            <a:off x="6227640" y="558972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17"/>
          <p:cNvSpPr/>
          <p:nvPr/>
        </p:nvSpPr>
        <p:spPr>
          <a:xfrm flipH="1">
            <a:off x="8603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62"/>
          <p:cNvSpPr/>
          <p:nvPr/>
        </p:nvSpPr>
        <p:spPr>
          <a:xfrm>
            <a:off x="6227640" y="3860640"/>
            <a:ext cx="146160" cy="287640"/>
          </a:xfrm>
          <a:prstGeom prst="downArrow">
            <a:avLst>
              <a:gd name="adj1" fmla="val 50000"/>
              <a:gd name="adj2" fmla="val 492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63"/>
          <p:cNvSpPr/>
          <p:nvPr/>
        </p:nvSpPr>
        <p:spPr>
          <a:xfrm flipH="1">
            <a:off x="6227640" y="234936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64"/>
          <p:cNvSpPr/>
          <p:nvPr/>
        </p:nvSpPr>
        <p:spPr>
          <a:xfrm flipH="1">
            <a:off x="6227640" y="292428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539640" y="333360"/>
          <a:ext cx="8226360" cy="60660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АВЦП, ФЦП в 20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Object 312"/>
          <p:cNvGraphicFramePr/>
          <p:nvPr/>
        </p:nvGraphicFramePr>
        <p:xfrm>
          <a:off x="971640" y="971640"/>
          <a:ext cx="8267760" cy="588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Object 3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71640"/>
                    <a:ext cx="826776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Распределение тем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в 201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765000"/>
          <a:ext cx="8353440" cy="5494680"/>
        </p:xfrm>
        <a:graphic>
          <a:graphicData uri="http://schemas.openxmlformats.org/drawingml/2006/table">
            <a:tbl>
              <a:tblPr/>
              <a:tblGrid>
                <a:gridCol w="3540240"/>
                <a:gridCol w="1789200"/>
                <a:gridCol w="3024000"/>
              </a:tblGrid>
              <a:tr h="50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 35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 15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9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2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 40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1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41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 т.ч.: - Морской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 1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Лаборатория спутниковой океанограф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 0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 13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AutoShape 1117"/>
          <p:cNvSpPr/>
          <p:nvPr/>
        </p:nvSpPr>
        <p:spPr>
          <a:xfrm>
            <a:off x="5580000" y="1341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118"/>
          <p:cNvSpPr/>
          <p:nvPr/>
        </p:nvSpPr>
        <p:spPr>
          <a:xfrm>
            <a:off x="8675640" y="170028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119"/>
          <p:cNvSpPr/>
          <p:nvPr/>
        </p:nvSpPr>
        <p:spPr>
          <a:xfrm>
            <a:off x="867564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121"/>
          <p:cNvSpPr/>
          <p:nvPr/>
        </p:nvSpPr>
        <p:spPr>
          <a:xfrm>
            <a:off x="8675640" y="1341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123"/>
          <p:cNvSpPr/>
          <p:nvPr/>
        </p:nvSpPr>
        <p:spPr>
          <a:xfrm>
            <a:off x="5580000" y="170028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24"/>
          <p:cNvSpPr/>
          <p:nvPr/>
        </p:nvSpPr>
        <p:spPr>
          <a:xfrm>
            <a:off x="5580000" y="371628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125"/>
          <p:cNvSpPr/>
          <p:nvPr/>
        </p:nvSpPr>
        <p:spPr>
          <a:xfrm>
            <a:off x="8675640" y="3213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126"/>
          <p:cNvSpPr/>
          <p:nvPr/>
        </p:nvSpPr>
        <p:spPr>
          <a:xfrm>
            <a:off x="5580000" y="3213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127"/>
          <p:cNvSpPr/>
          <p:nvPr/>
        </p:nvSpPr>
        <p:spPr>
          <a:xfrm>
            <a:off x="8675640" y="3789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128"/>
          <p:cNvSpPr/>
          <p:nvPr/>
        </p:nvSpPr>
        <p:spPr>
          <a:xfrm>
            <a:off x="8675640" y="436572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129"/>
          <p:cNvSpPr/>
          <p:nvPr/>
        </p:nvSpPr>
        <p:spPr>
          <a:xfrm>
            <a:off x="8675640" y="4797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154"/>
          <p:cNvSpPr/>
          <p:nvPr/>
        </p:nvSpPr>
        <p:spPr>
          <a:xfrm>
            <a:off x="8675640" y="5805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155"/>
          <p:cNvSpPr/>
          <p:nvPr/>
        </p:nvSpPr>
        <p:spPr>
          <a:xfrm>
            <a:off x="5580000" y="4797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56"/>
          <p:cNvSpPr/>
          <p:nvPr/>
        </p:nvSpPr>
        <p:spPr>
          <a:xfrm>
            <a:off x="5580000" y="213372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157"/>
          <p:cNvSpPr/>
          <p:nvPr/>
        </p:nvSpPr>
        <p:spPr>
          <a:xfrm>
            <a:off x="5580000" y="2637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158"/>
          <p:cNvSpPr/>
          <p:nvPr/>
        </p:nvSpPr>
        <p:spPr>
          <a:xfrm>
            <a:off x="8675640" y="2637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Сведения по НИР за 201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 год </a:t>
            </a:r>
            <a:r>
              <a:rPr b="1" lang="ru-RU" sz="22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68360" y="1052640"/>
          <a:ext cx="8424720" cy="561312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89080"/>
                <a:gridCol w="647640"/>
                <a:gridCol w="287280"/>
                <a:gridCol w="574560"/>
                <a:gridCol w="289080"/>
                <a:gridCol w="684000"/>
                <a:gridCol w="179640"/>
                <a:gridCol w="649080"/>
                <a:gridCol w="287280"/>
                <a:gridCol w="646200"/>
                <a:gridCol w="505080"/>
                <a:gridCol w="936360"/>
              </a:tblGrid>
              <a:tr h="86328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59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15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 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 53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4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9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2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90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500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406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 09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4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5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6 158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:  -  Морской институ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ИГЭ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1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 1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Лаборатория  спутниковой океанографи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0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 0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083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24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79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8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3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0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13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</a:t>
            </a: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1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году (часть 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1700280"/>
          <a:ext cx="8785440" cy="46749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 85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 09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4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05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63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 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66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57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07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50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0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Snt</cp:lastModifiedBy>
  <dcterms:modified xsi:type="dcterms:W3CDTF">2012-07-30T14:01:19Z</dcterms:modified>
  <cp:revision>558</cp:revision>
  <dc:subject/>
  <dc:title>Итоговая сессия Ученого совета РГГМУ</dc:title>
</cp:coreProperties>
</file>